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92D-65D5-46DA-A127-671141C9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A70-06E0-4407-8314-AFAB777B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77C-C280-465D-9205-ACAE2270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D52-5859-440B-A7A9-ADB64C67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2E0-6240-41FE-B713-D1B254C2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EF8-9511-4AFA-B2CF-332DD158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A08-EFED-4FFD-BBE8-8C673AF4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6A5-F2AA-48C4-8A9F-235A538F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92E-DA43-4F26-9181-E1F27DBE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96A-EE43-4543-815C-EE7F7885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3FC-6EA7-4C94-86D8-489E7763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970-BC6A-4E33-911D-1B857DEC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215B-0296-4207-8404-1571CEBE8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войные раст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кор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Многие хвойные – декоративные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амой процветающей сегодня группой голосеменных растений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войные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часто выделяемые в отдел 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</a:rPr>
              <a:t>Кониферофита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ечнозеле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это деревья либо кустарники, обычно вечнозелёные с цельными игловидными листьями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хвоей</a:t>
            </a: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); иногда листья чешуевидные или пластинчатые. Небольшая площадь поверхности листа и толстый восковой слой, покрывающий его, способствуют удержанию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1"/>
          <a:stretch/>
        </p:blipFill>
        <p:spPr>
          <a:xfrm>
            <a:off x="5033880" y="1981080"/>
            <a:ext cx="303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евес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есине развита ксилема из трахеид с заметными годичными коль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хвойные достигают высоты 50–60 м и даже 100 м и диаметра 6–9 м (например, секвойя) и живут тысячелетия (сосна долговечна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4822920" y="198108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большей частью однодомные растения. Пыльца образуется в микроспорангиях, расположенных на микроспорофиллах, иногда собранных в шишках (у сосны обыкновенной – около 5 мм в диаметре); яйцеклетки образуются на мегастробилах, собранных в шишки (у калифорнийской сосны Ламберта их размеры достигают 65 см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Опыление происходит при помощи ветра. Пыльцевые зёрна прорастают, достигая яйцеклетки; наличие капельножидкой воды для этого не обязательно. После оплодотворения развивается зародыш, имеющий от 2 до 15 семядолей. У сосны оплодотворение происходит через год после опыления, а на созревание требуется ещё полтора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Семена развиваются «голыми» – на поверхности семенных чешуй шишек. К моменту созревания чешуйки отгибаются, и семена (нередко крылатые) высыпаются наружу.</a:t>
            </a:r>
            <a:br>
              <a:rPr sz="3200"/>
            </a:br>
            <a:r>
              <a:rPr b="0" lang="en-US" sz="3200" spc="-1" strike="noStrike">
                <a:solidFill>
                  <a:srgbClr val="172c07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пищевой промышл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c07"/>
                </a:solidFill>
                <a:latin typeface="Tahoma"/>
                <a:ea typeface="Tahoma"/>
              </a:rPr>
              <a:t>Семена кедровой сосны и некоторых других хвойных употребляются в пищу, из них добывают мас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" descr=""/>
          <p:cNvPicPr/>
          <p:nvPr/>
        </p:nvPicPr>
        <p:blipFill>
          <a:blip r:embed="rId1"/>
          <a:stretch/>
        </p:blipFill>
        <p:spPr>
          <a:xfrm>
            <a:off x="4819680" y="19810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хозяйств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(ель, сосна, пихта, кедр, тсуга) – важнейший источник древесины и продуктов её переработки – бумаги, канифоли, скипидара, дёгтя, лаков, дубильных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1:07:18Z</dcterms:created>
  <dc:creator>Lussia</dc:creator>
  <dc:description/>
  <dc:language>en-US</dc:language>
  <cp:lastModifiedBy>Lussia</cp:lastModifiedBy>
  <dcterms:modified xsi:type="dcterms:W3CDTF">2008-07-30T21:18:03Z</dcterms:modified>
  <cp:revision>2</cp:revision>
  <dc:subject/>
  <dc:title>Хвойные растения</dc:title>
</cp:coreProperties>
</file>